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66CD-B72B-412B-A2CD-3D6EFBE1D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6542-16DD-402B-944F-713BE17B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EA4E-C195-4C57-8843-A6EEB967D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E3FC-5CD9-4486-AC90-FB5BFF0EA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B49E-DFE9-43F1-9447-AB16554D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295F-DB35-41D4-8BE5-36C14567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A21B-B70E-4696-9520-998592DE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3479-A1A6-4EC9-A2F0-2866B040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6891-2DED-47FE-A0DD-09A91477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5F96-8167-4B62-BAC0-AAD89EB5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C464-0ADC-4827-9D6D-99960B95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1718-7171-46E4-9958-E03305A5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359E-C195-44E1-A4DF-DE5E4102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0452-49A1-47C1-A335-85307EE9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5484-CC05-4190-87A4-B2E7F90A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C1FC-6BD7-4ED8-8780-ADF2638FA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22AE-8C91-49D5-B0AD-D48F60C23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FD36-F7D7-4FEB-8693-683BC879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BBA0-DF7E-4108-9CE3-D7435973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ABF4-8622-4D30-8EB0-0E633F60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792E-5356-4E4E-8BDD-D425EEB2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1159-54E1-44AE-9E2E-B8BAA85B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CC0E-3B0E-41CB-884E-4377D69B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9AE8-DFA1-48DD-BD55-9AE325A6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473C-5E65-4C73-A963-ECB3415AF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B828-50ED-4D1A-B073-A0AFC557F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e llamo _________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ase 702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a fecha es 4 de marzo del 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20" y="8380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posito 53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Cómo practicamos los verbos de cambio radical para e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UIZ 4: Capitulo 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 mar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030a0"/>
                </a:solidFill>
                <a:latin typeface="Arial"/>
              </a:rPr>
              <a:t>L.O: to review stem-changing 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ribe 2 oraciones con los verbo de cambio radic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to wa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der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to 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eza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to beg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to be able 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v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to return somewhe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rmi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to slee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ga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to pl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erbos de la “Bot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m-changing verbs are also known as “BOOT” ver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gate the verb in BOOT FOR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evolver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(to return something)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N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 ella U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2752920" y="3962520"/>
            <a:ext cx="17046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ev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v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754720" y="4419720"/>
            <a:ext cx="16862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ev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764440" y="4876920"/>
            <a:ext cx="16876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ev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v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937840" y="396252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evolv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778720" y="441972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evolvé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6591600" y="4876920"/>
            <a:ext cx="17028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ev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4363560" y="487692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os ellas U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303120" y="3352680"/>
            <a:ext cx="31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e…..it’s a BOOT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1632240" y="5784840"/>
            <a:ext cx="75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YOU ONLY CHANGE WHAT I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SID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THE BOOT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2"/>
          <p:cNvSpPr/>
          <p:nvPr/>
        </p:nvSpPr>
        <p:spPr>
          <a:xfrm>
            <a:off x="2743200" y="3886200"/>
            <a:ext cx="0" cy="1452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20"/>
          <p:cNvSpPr/>
          <p:nvPr/>
        </p:nvSpPr>
        <p:spPr>
          <a:xfrm flipV="1">
            <a:off x="4419720" y="3886200"/>
            <a:ext cx="0" cy="1014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23"/>
          <p:cNvSpPr/>
          <p:nvPr/>
        </p:nvSpPr>
        <p:spPr>
          <a:xfrm flipH="1">
            <a:off x="4419360" y="4876920"/>
            <a:ext cx="3886200" cy="23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27"/>
          <p:cNvSpPr/>
          <p:nvPr/>
        </p:nvSpPr>
        <p:spPr>
          <a:xfrm flipV="1">
            <a:off x="8305920" y="4832280"/>
            <a:ext cx="0" cy="501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29"/>
          <p:cNvSpPr/>
          <p:nvPr/>
        </p:nvSpPr>
        <p:spPr>
          <a:xfrm flipH="1">
            <a:off x="2754360" y="5334120"/>
            <a:ext cx="5519520" cy="29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31"/>
          <p:cNvSpPr/>
          <p:nvPr/>
        </p:nvSpPr>
        <p:spPr>
          <a:xfrm>
            <a:off x="2754360" y="3886200"/>
            <a:ext cx="1665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Arrow Connector 15"/>
          <p:cNvCxnSpPr/>
          <p:nvPr/>
        </p:nvCxnSpPr>
        <p:spPr>
          <a:xfrm flipV="1">
            <a:off x="3423960" y="5446440"/>
            <a:ext cx="386280" cy="4212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02" name="Straight Arrow Connector 37"/>
          <p:cNvCxnSpPr/>
          <p:nvPr/>
        </p:nvCxnSpPr>
        <p:spPr>
          <a:xfrm flipH="1" flipV="1">
            <a:off x="7619760" y="5409360"/>
            <a:ext cx="305280" cy="42156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03" name="Straight Arrow Connector 41"/>
          <p:cNvCxnSpPr/>
          <p:nvPr/>
        </p:nvCxnSpPr>
        <p:spPr>
          <a:xfrm flipH="1" flipV="1">
            <a:off x="6323760" y="5409360"/>
            <a:ext cx="305640" cy="421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RY IT 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gate 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o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Jug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r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to be abl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N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 ella 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to 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N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 ella 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823840" y="274320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os ellas U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783400" y="190332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4192920" y="220968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odé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2823840" y="495288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os ellas U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4262760" y="419112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Jugá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719320" y="3881520"/>
            <a:ext cx="11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gai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280" y="914400"/>
          <a:ext cx="6934320" cy="2590920"/>
        </p:xfrm>
        <a:graphic>
          <a:graphicData uri="http://schemas.openxmlformats.org/drawingml/2006/table">
            <a:tbl>
              <a:tblPr/>
              <a:tblGrid>
                <a:gridCol w="1206720"/>
                <a:gridCol w="1807920"/>
                <a:gridCol w="2065320"/>
                <a:gridCol w="1854360"/>
              </a:tblGrid>
              <a:tr h="647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er </a:t>
                      </a:r>
                      <a:r>
                        <a:rPr b="0" i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o 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Text Box 31"/>
          <p:cNvSpPr/>
          <p:nvPr/>
        </p:nvSpPr>
        <p:spPr>
          <a:xfrm>
            <a:off x="5334120" y="2209680"/>
            <a:ext cx="1600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Mové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676520" y="3809880"/>
          <a:ext cx="6705360" cy="2667240"/>
        </p:xfrm>
        <a:graphic>
          <a:graphicData uri="http://schemas.openxmlformats.org/drawingml/2006/table">
            <a:tbl>
              <a:tblPr/>
              <a:tblGrid>
                <a:gridCol w="1166760"/>
                <a:gridCol w="1747800"/>
                <a:gridCol w="1819080"/>
                <a:gridCol w="1971720"/>
              </a:tblGrid>
              <a:tr h="666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lver </a:t>
                      </a:r>
                      <a:r>
                        <a:rPr b="0" i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o return somew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ext Box 68"/>
          <p:cNvSpPr/>
          <p:nvPr/>
        </p:nvSpPr>
        <p:spPr>
          <a:xfrm>
            <a:off x="6477120" y="5195880"/>
            <a:ext cx="1600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Volvé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7504200" y="173844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308160" y="47340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ne more tim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2280" y="914400"/>
          <a:ext cx="7353360" cy="2590920"/>
        </p:xfrm>
        <a:graphic>
          <a:graphicData uri="http://schemas.openxmlformats.org/drawingml/2006/table">
            <a:tbl>
              <a:tblPr/>
              <a:tblGrid>
                <a:gridCol w="1279800"/>
                <a:gridCol w="1917720"/>
                <a:gridCol w="1755720"/>
                <a:gridCol w="2400120"/>
              </a:tblGrid>
              <a:tr h="647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nt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der </a:t>
                      </a:r>
                      <a:r>
                        <a:rPr b="0" i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o under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31"/>
          <p:cNvSpPr/>
          <p:nvPr/>
        </p:nvSpPr>
        <p:spPr>
          <a:xfrm>
            <a:off x="5181480" y="2209680"/>
            <a:ext cx="2057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Entendé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676520" y="3809880"/>
          <a:ext cx="6705360" cy="2667240"/>
        </p:xfrm>
        <a:graphic>
          <a:graphicData uri="http://schemas.openxmlformats.org/drawingml/2006/table">
            <a:tbl>
              <a:tblPr/>
              <a:tblGrid>
                <a:gridCol w="1166760"/>
                <a:gridCol w="1747800"/>
                <a:gridCol w="1819080"/>
                <a:gridCol w="1971720"/>
              </a:tblGrid>
              <a:tr h="666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Qu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er </a:t>
                      </a:r>
                      <a:r>
                        <a:rPr b="0" i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o like w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68"/>
          <p:cNvSpPr/>
          <p:nvPr/>
        </p:nvSpPr>
        <p:spPr>
          <a:xfrm>
            <a:off x="6477120" y="5195880"/>
            <a:ext cx="1600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Queré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7503120" y="17384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346680" y="475776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juga los verbos de bo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80880" y="1371600"/>
          <a:ext cx="8458200" cy="5545080"/>
        </p:xfrm>
        <a:graphic>
          <a:graphicData uri="http://schemas.openxmlformats.org/drawingml/2006/table">
            <a:tbl>
              <a:tblPr/>
              <a:tblGrid>
                <a:gridCol w="1828800"/>
                <a:gridCol w="2590920"/>
                <a:gridCol w="1752480"/>
                <a:gridCol w="2286000"/>
              </a:tblGrid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 cou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t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 fee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Rectangle 74"/>
          <p:cNvSpPr/>
          <p:nvPr/>
        </p:nvSpPr>
        <p:spPr>
          <a:xfrm>
            <a:off x="6324480" y="2666880"/>
            <a:ext cx="2590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Arial"/>
              </a:rPr>
              <a:t>cont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0"/>
          <p:cNvSpPr/>
          <p:nvPr/>
        </p:nvSpPr>
        <p:spPr>
          <a:xfrm>
            <a:off x="6553080" y="548640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sentí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5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LOS VERBOS DE CAMBIO RADICAL O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iz 4: Capitulo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FRI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5:09:59Z</dcterms:created>
  <dc:creator>Helen Zumaeta</dc:creator>
  <dc:description/>
  <dc:language>en-US</dc:language>
  <cp:lastModifiedBy>Helen Zumaeta</cp:lastModifiedBy>
  <cp:lastPrinted>2016-03-01T16:08:49Z</cp:lastPrinted>
  <dcterms:modified xsi:type="dcterms:W3CDTF">2016-03-04T21:29:24Z</dcterms:modified>
  <cp:revision>38</cp:revision>
  <dc:subject/>
  <dc:title>Me llamo _________ Clase 7 IM La fecha es 3 de diciembre del 2010</dc:title>
</cp:coreProperties>
</file>